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E93-42FF-45E7-93FF-2AAB0E6E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630-E729-4D47-BAB3-867E9B4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0F5-4463-48C7-93B7-BF511805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374-4BA5-40C2-80FF-4E9E0B2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ECB-CFED-4A14-9D92-220E93B1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51C-4BF2-4469-8160-83B630DC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806-3398-4BDE-BD8E-A4D23FD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D54-9820-4329-8B40-812D5A22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C75-8CCC-4B8B-AFB1-4E0D405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3CB-F5F5-4CD9-ADB4-C18830A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03B3-0CF7-468B-A4BD-D8E3C39D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D5B-F08A-44CC-8753-C97EDB99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E76F-9F45-4D3D-A7BE-BB051C5F6BA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B229-8E97-4AC6-9E29-D492C5DD62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nten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ar p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oss-sectional view; show three-dimensional radiation pattern in two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iation Resista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ation Re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ion of antenna’s input impedance; result of power radiated into sp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es with antenna length and height of antenna above grou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iation Resista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ation Re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constructed of very thin wire and isolated in space; electrical length corresponds closely to its physical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al-and-error procedure to find exact length for optimum antenna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Feed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fer energy from generator to antenna by transmission line (antenna feed lin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nant Fe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line connected to center of anten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Feed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resonant Fe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ligible standing waves if properly terminated in its impedance at antenna 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 practically independent of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Feed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ta M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line does not match impedance of antenna, it is necessary to use special impedance matching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rter-Wave Matc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tch low impedance of antenna to line of higher imped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no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Ground Ref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ith frequencies below 2 M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connected between antenna and ground; quarter-wave in physical length, half-wave operation may be obta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no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Ground Ref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terp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ucture of wire erected short distance above ground and insulated from grou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mnidirect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ing c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e out capacitive appearance of anten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Array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/Parasitic El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than one element or compon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sitic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or more of elements not electrically connected; also termed reflector because it “reflects” energy from driven el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Array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/Parasitic El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ven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elements conn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agi–Uda anten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iven element and two or more parasitic elem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Antenna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t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or or system of conductors; transition from guided wave of electrical energy to electromagnetic wave propagating in free spa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eiv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conductor or array of conductors; converts electromagnetic wave cutting across it back to electrical signal in alternating voltages/curr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Array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ven Collinear Arr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half-wave elements in which all elements placed end to end to form straight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oadside Arr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half-wave elements mounted vertically, one over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rtical Arr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nidirectional in horizontal pla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ial-Purpos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-Periodic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case of driven array; wide-bandwidth or broadband anten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all-Loop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ield everywhere perpendicular to loo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ial-Purpos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rrite Loop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number of loops wound about highly magnetic core (usually ferrite); increases greatly effective diameter of loop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ial-Purpos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lded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radiation pattern as standard half-wave dipole antenna; broadband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t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HF and microwave frequencies; energy coupled into slot by waveguides or coaxial line feed connected across dimension of rectangular sl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optical theory more than standard antenna the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ly directive and provide high gain compared to half-wavelength dipo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waves divided into band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4-1: Microwave Frequency Design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4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icrowave Frequency Designa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tab14_01.jpg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3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rn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l flare to waveguide to allow maximum radiation and minimum reflection back into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lar, pyramidal, sectoral ho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arabolic Reflector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ellite and terrestrial communication systems; high gain and directiv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rom geometric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bolo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ns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ciple of zoning; savings in bulk and expense justify use of zoned le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ch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uare or round “island” of conductor on dielectric substrate backed by conducting ground pla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terrestrial communications systems involve point-to-point links where path of interest directly between transmitter and receiver, both installed at fixed loc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restrial microwave systems operate with relatively low transmitter powe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Antenna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omagnetic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ng and decelerating electric charges moving within conduc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ipro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hangeability for transmitting and receiving op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lar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entation of electric field; same as antenna’s physical config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 transceivers available that provide very high data rates on unlicensed band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shold sensitivity of receiver: minimum signal level present at receiver antenna input to produce acceptable bit-error rate (BER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cause microwave communications are line of sight, a path study must be made to ensure no obstructions lie anywhere in line between transmitter and receiv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sure no objects close enough to produce diffraction effec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having electrical length of one-half wavelength at applied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ith frequencies above 2 M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 is ratio of voltage applied to antenna to current flowing in it at any poi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ing Hertz antenna at center results in input impedance that is purely resis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enna with purely resistive imped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enna no longer half wavelength; impedance both resistive and reactive proper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will work as long as there is current flow and ability to radi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power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ake place when source, feed-line, antenna impedances are equ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ated field strength around anten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in certain directions at expense of lower energy in other direc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amwid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paration between half-power points on radiation patter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g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ated energy in preferred direction at expense of other direc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radiated power (ER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in of antenna multiplied by its power 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isotropic radiated power (EIR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-power calculations involving antennas with gains expressed in dB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49:53Z</dcterms:modified>
  <cp:revision>5</cp:revision>
  <dc:subject/>
  <dc:title>Slide 1</dc:title>
</cp:coreProperties>
</file>